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93C-3BDE-4CDA-8A76-D10285AB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1F6-54DA-403F-95A2-50ED6F91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319-AB35-4613-87EA-AF16CF9D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C55-75A0-4D91-9326-6FD5BB6C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1B2-A314-4A17-92EB-B5820858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8E4-6798-4E1C-9605-C83CF15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42A-9B77-4D8C-B971-3F95ADB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3FA-D79F-4D16-B4A2-09C7E579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F70-7535-4B24-A320-C0E7C15E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6E1-32C6-457B-9550-35A0A33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3CA-BDA0-412E-BBE3-1CE7981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42F-0BFA-4C89-9003-C636A6C4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C815-D6E8-46A5-9EFB-E9850ABF4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6880" y="3319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7030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U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BEAULIEU 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 LO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ésentation n° 1 : QU’EST- CE -QUE LE 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VELOPPEMENT DUR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19" t="1369" r="2442" b="15314"/>
          <a:stretch/>
        </p:blipFill>
        <p:spPr>
          <a:xfrm>
            <a:off x="0" y="0"/>
            <a:ext cx="2700360" cy="184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1268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6d137"/>
                </a:solidFill>
                <a:latin typeface="Arial"/>
              </a:rPr>
              <a:t>Beaulieu-lès-Lo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796"/>
          <a:stretch/>
        </p:blipFill>
        <p:spPr>
          <a:xfrm>
            <a:off x="2411280" y="2205000"/>
            <a:ext cx="4392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340000" y="2565360"/>
            <a:ext cx="5759280" cy="947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CONCEPT DE 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ELOPPEMENT D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24280"/>
            <a:ext cx="2627280" cy="1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140328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1919" t="1369" r="2442" b="15314"/>
          <a:stretch/>
        </p:blipFill>
        <p:spPr>
          <a:xfrm>
            <a:off x="250920" y="0"/>
            <a:ext cx="1871640" cy="1670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1800" y="11970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d137"/>
                </a:solidFill>
                <a:latin typeface="Arial"/>
              </a:rPr>
              <a:t>Beaulieu-lès-Lo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68360" y="476280"/>
            <a:ext cx="460872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ONCEPT D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6640"/>
            <a:ext cx="2627280" cy="1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1628640"/>
            <a:ext cx="565776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Arial"/>
              </a:rPr>
              <a:t>LE 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É</a:t>
            </a:r>
            <a:r>
              <a:rPr b="1" lang="fr-FR" sz="2000" spc="-1" strike="noStrike">
                <a:solidFill>
                  <a:srgbClr val="99cc00"/>
                </a:solidFill>
                <a:latin typeface="Arial"/>
              </a:rPr>
              <a:t>VELOPPEMENT DURAB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Arial"/>
              </a:rPr>
              <a:t>3 DIMENSIONS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E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407664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« Satisfaire nos </a:t>
            </a:r>
            <a:r>
              <a:rPr b="1" lang="fr-FR" sz="2800" spc="-1" strike="noStrike">
                <a:solidFill>
                  <a:srgbClr val="cc0000"/>
                </a:solidFill>
                <a:latin typeface="Arial"/>
              </a:rPr>
              <a:t>besoins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sans compromettre la capacité des </a:t>
            </a:r>
            <a:r>
              <a:rPr b="1" lang="fr-FR" sz="2800" spc="-1" strike="noStrike">
                <a:solidFill>
                  <a:srgbClr val="cc0000"/>
                </a:solidFill>
                <a:latin typeface="Arial"/>
              </a:rPr>
              <a:t>générations futures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à subvenir aux leur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183528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68360" y="476280"/>
            <a:ext cx="460872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ONCEPT D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836640"/>
            <a:ext cx="2627280" cy="1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395280" y="6019920"/>
            <a:ext cx="7122600" cy="838080"/>
            <a:chOff x="395280" y="6019920"/>
            <a:chExt cx="7122600" cy="838080"/>
          </a:xfrm>
        </p:grpSpPr>
        <p:sp>
          <p:nvSpPr>
            <p:cNvPr id="158" name="AutoShape 9"/>
            <p:cNvSpPr/>
            <p:nvPr/>
          </p:nvSpPr>
          <p:spPr>
            <a:xfrm>
              <a:off x="395280" y="6019920"/>
              <a:ext cx="1015920" cy="838080"/>
            </a:xfrm>
            <a:prstGeom prst="rightArrow">
              <a:avLst>
                <a:gd name="adj1" fmla="val 50000"/>
                <a:gd name="adj2" fmla="val 3030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1546560" y="6210360"/>
              <a:ext cx="59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979e"/>
                  </a:solidFill>
                  <a:latin typeface="Trebuchet MS"/>
                  <a:ea typeface="MS PGothic"/>
                </a:rPr>
                <a:t>Un impératif : l’articulation des 3 pili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7"/>
          <p:cNvSpPr/>
          <p:nvPr/>
        </p:nvSpPr>
        <p:spPr>
          <a:xfrm>
            <a:off x="380880" y="1752480"/>
            <a:ext cx="4229280" cy="3035520"/>
          </a:xfrm>
          <a:prstGeom prst="ellipse">
            <a:avLst/>
          </a:prstGeom>
          <a:solidFill>
            <a:srgbClr val="ff6600">
              <a:alpha val="49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Équité soc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4724280" y="1676520"/>
            <a:ext cx="4229280" cy="3035160"/>
          </a:xfrm>
          <a:prstGeom prst="ellipse">
            <a:avLst/>
          </a:prstGeom>
          <a:solidFill>
            <a:srgbClr val="ff0000">
              <a:alpha val="49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</a:rPr>
              <a:t>Développ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</a:rPr>
              <a:t>économ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590920" y="3822840"/>
            <a:ext cx="4228920" cy="3035160"/>
          </a:xfrm>
          <a:prstGeom prst="ellipse">
            <a:avLst/>
          </a:prstGeom>
          <a:solidFill>
            <a:srgbClr val="00ff00">
              <a:alpha val="49000"/>
            </a:srgbClr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e00"/>
                </a:solidFill>
                <a:latin typeface="Arial Narrow"/>
              </a:rPr>
              <a:t>Pré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e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8e00"/>
                </a:solidFill>
                <a:latin typeface="Arial Narrow"/>
              </a:rPr>
              <a:t>de l’environn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2514600" y="1981080"/>
            <a:ext cx="4343400" cy="3124440"/>
          </a:xfrm>
          <a:prstGeom prst="ellipse">
            <a:avLst/>
          </a:prstGeom>
          <a:solidFill>
            <a:srgbClr val="bbe0e3">
              <a:alpha val="99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Développ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Dur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Équité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Développement écono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200"/>
                </a:solidFill>
                <a:latin typeface="Arial Narrow"/>
              </a:rPr>
              <a:t>Préservation de l’envir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23541 0.03426 E">
                                      <p:cBhvr>
                                        <p:cTn id="9" dur="39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-1.85185E-006 L -0.23959 0.04537 E">
                                      <p:cBhvr>
                                        <p:cTn id="13" dur="38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00625 -0.25648 E">
                                      <p:cBhvr>
                                        <p:cTn id="15" dur="39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68360" y="476280"/>
            <a:ext cx="460872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ONCEPT D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6640"/>
            <a:ext cx="2627280" cy="1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219564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280" y="1557360"/>
            <a:ext cx="84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Quelques principes associés au développement du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27664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7040" y="2395440"/>
            <a:ext cx="7190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éserver l’environn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articipation des citoyens au processus de dé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éoccupation de la santé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tection et intégration des personnes les plus frag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e consommation respon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 territoires compétitif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68360" y="333360"/>
            <a:ext cx="460872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ONCEPT D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20640"/>
            <a:ext cx="2627280" cy="1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5280" y="14842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 nouveaux objectifs à respecter : le Grenelle de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637000"/>
            <a:ext cx="7518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Quelques exemp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Réduction des déchets de 5kg/an/h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15 % de produits bio dans les cantines d’ici 2010</a:t>
            </a:r>
            <a:br>
              <a:rPr sz="2000"/>
            </a:b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D’ici 2020, une part d’énergie renouvelable d’au moins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Incitation à l’achat groupé de véhicules prop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2843280" y="6021360"/>
            <a:ext cx="17636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63640" y="2565360"/>
            <a:ext cx="6408720" cy="163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DEMARCHE AGENDA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41720"/>
            <a:ext cx="1871640" cy="10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334800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rcRect l="1919" t="1369" r="2442" b="15314"/>
          <a:stretch/>
        </p:blipFill>
        <p:spPr>
          <a:xfrm>
            <a:off x="250920" y="0"/>
            <a:ext cx="1871640" cy="1670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1800" y="11970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d137"/>
                </a:solidFill>
                <a:latin typeface="Arial"/>
              </a:rPr>
              <a:t>Beaulieu-lès-Lo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92360" y="404640"/>
            <a:ext cx="46083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MARCHE AGENDA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49360"/>
            <a:ext cx="1871640" cy="10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981000"/>
            <a:ext cx="42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genda 2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= « Ce que l’on doit faire au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XXI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ème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siècl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en matière de développement durable » (Sommet de la terre de RIO,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484280"/>
            <a:ext cx="7705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L’ Agenda 21 permet 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ordonner l'ensemble des actions menées dans une logique de développement du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loriser un territoire en mobilisant le maximum de ses acteurs dans un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nsibiliser et associer toutes les parties prenantes du développement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biliser les énergies au sein des services de la collectivité, d'enrichir les missions de certains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eux maîtriser certaines dépenses publiques (économies d'eau, d'énergie, de papier, de produits phytosanitaire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356400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692360" y="404640"/>
            <a:ext cx="46083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MARCHE AGENDA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49360"/>
            <a:ext cx="1871640" cy="10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58920" y="1989000"/>
            <a:ext cx="7058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 diagnostic partag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Un programme d’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Un suivi et une évaluation du program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5120" y="1289160"/>
            <a:ext cx="48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 étapes d’un agenda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1919" t="1369" r="2442" b="15314"/>
          <a:stretch/>
        </p:blipFill>
        <p:spPr>
          <a:xfrm>
            <a:off x="250920" y="0"/>
            <a:ext cx="1871640" cy="1670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24000" y="2565360"/>
            <a:ext cx="5472360" cy="947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ELOPPEMNT DURABLE ET LA CO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97360"/>
            <a:ext cx="2627280" cy="107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rcRect l="42623" t="0" r="8864" b="0"/>
          <a:stretch/>
        </p:blipFill>
        <p:spPr>
          <a:xfrm>
            <a:off x="392436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1800" y="1125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d137"/>
                </a:solidFill>
                <a:latin typeface="Arial"/>
              </a:rPr>
              <a:t>Beaulieu-lès-Lo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68360" y="333360"/>
            <a:ext cx="46087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NT DURABLE ET LA CO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0640"/>
            <a:ext cx="2627280" cy="1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s actions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314172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428472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6000" y="2060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35640" y="19162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 nouvelles actions envisage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349360"/>
            <a:ext cx="4356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 limitation de l’utilisation des produits pythosani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’utilisation du désherbeur therm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’interdiction de faucher dans la vallée de l’Indre durant certaines péri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’utilisation de plantes vivaces et 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se à disposition d’un terrain pour l’association les Petits Jardins de Beauli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2492280"/>
            <a:ext cx="464328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 mise en place d’une plate forme de comp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’utilisation de paillage dans les mass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724360" y="4075200"/>
            <a:ext cx="2951280" cy="2517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42160" y="134136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a gestion des espaces ve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141300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90792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349360"/>
            <a:ext cx="460836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ONCEPT D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5084640"/>
            <a:ext cx="46087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NT DURABLE ET LA CO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26828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2708280"/>
            <a:ext cx="2627280" cy="1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5445000"/>
            <a:ext cx="2627280" cy="1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1268280"/>
            <a:ext cx="684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44000" y="1268280"/>
            <a:ext cx="684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3933720"/>
            <a:ext cx="46087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MARCHE AGENDA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72360" y="4076640"/>
            <a:ext cx="1871640" cy="10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076640"/>
            <a:ext cx="1871640" cy="10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8360" y="333360"/>
            <a:ext cx="46087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NT DURABLE ET LA CO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20640"/>
            <a:ext cx="2627280" cy="1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198900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s actions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198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 nouvelles actions envisage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2133720"/>
            <a:ext cx="0" cy="45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213372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0820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1280" y="134136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olidarité  et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7480" y="272880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2565360"/>
            <a:ext cx="405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s chantiers d’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 création d’un comité de jume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 recours à l’Entraide Loch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 recrutement de contrat d’inser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3213000"/>
            <a:ext cx="442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Le recours aux produits bio à la cant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Le renforcement de l’utilisation de produit d’entretien écolabe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4932360" y="6021360"/>
            <a:ext cx="17636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68360" y="333360"/>
            <a:ext cx="46087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NT DURABLE ET LA CO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20640"/>
            <a:ext cx="2627280" cy="1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234936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s actions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35640" y="2349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 nouvelles actions envisage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256536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6720" y="1341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Éner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620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3068640"/>
            <a:ext cx="3908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’ extinction de l’éclairage public entre 0 h 30 et 5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 réalisation d’un audit sur l’éclairage 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3141720"/>
            <a:ext cx="47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éalisation d’un audit énergétique  sur les bâtiments commun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Éclairage public avec des lampes moins consommatrices en é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68360" y="333360"/>
            <a:ext cx="46087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NT DURABLE ET LA CO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20640"/>
            <a:ext cx="2627280" cy="1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0720" y="1341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3480" y="2513160"/>
            <a:ext cx="54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1268280"/>
            <a:ext cx="62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s gestes éco responsables des services municip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56000" y="263700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34936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s actions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35640" y="2349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 nouvelles actions envisage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3141720"/>
            <a:ext cx="405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tilisation du papier recyc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pression en recto 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éutilisation du papier usagé en brou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920" y="304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3068640"/>
            <a:ext cx="437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énéralisation de l’utilisation de la photocopi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tilisation de lampes basse consom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rêter les ordinateurs le plus souvent possible, et éviter le mode ve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5508720" y="6021360"/>
            <a:ext cx="17636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716436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31920" y="3882960"/>
            <a:ext cx="536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rcRect l="1919" t="1369" r="2442" b="15314"/>
          <a:stretch/>
        </p:blipFill>
        <p:spPr>
          <a:xfrm>
            <a:off x="2843280" y="1197000"/>
            <a:ext cx="2305080" cy="2055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637080" y="26370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d137"/>
                </a:solidFill>
                <a:latin typeface="Arial"/>
              </a:rPr>
              <a:t>Beaulieu-lès-Lo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5760" y="3703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00" y="2708280"/>
            <a:ext cx="6193080" cy="1068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06864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6864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179280" y="6021360"/>
            <a:ext cx="1764000" cy="1041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19" t="1369" r="2442" b="15314"/>
          <a:stretch/>
        </p:blipFill>
        <p:spPr>
          <a:xfrm>
            <a:off x="179280" y="0"/>
            <a:ext cx="2305080" cy="2055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3440" y="14842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d137"/>
                </a:solidFill>
                <a:latin typeface="Arial"/>
              </a:rPr>
              <a:t>Beaulieu-lès-Lo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95640" y="26028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92280"/>
            <a:ext cx="1800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9228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20500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 chaque être humain consommait autant de ressources qu’un Français, il faudrait l’équivalent de deux planètes supplémentaires pour subvenir durablement aux besoins de l’human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84360" y="40766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dont nous disposon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611280" y="522936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que notre mode de vie actuel demand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148716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11640" y="5084640"/>
            <a:ext cx="1487520" cy="152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24360" y="5084640"/>
            <a:ext cx="1487520" cy="15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308720" y="5084640"/>
            <a:ext cx="1487520" cy="152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41300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ous vivons au dessus des moyens de notre planèt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rcRect l="42623" t="0" r="8864" b="0"/>
          <a:stretch/>
        </p:blipFill>
        <p:spPr>
          <a:xfrm>
            <a:off x="25092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79280" y="4869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rmAutofit fontScale="62000"/>
          </a:bodyPr>
          <a:p>
            <a:pPr algn="ctr">
              <a:lnSpc>
                <a:spcPct val="8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de la population mondia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3800" y="3809880"/>
            <a:ext cx="457200" cy="53352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3800" y="1981080"/>
            <a:ext cx="457200" cy="1905120"/>
          </a:xfrm>
          <a:prstGeom prst="cube">
            <a:avLst>
              <a:gd name="adj" fmla="val 25000"/>
            </a:avLst>
          </a:prstGeom>
          <a:solidFill>
            <a:srgbClr val="d3d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2438280"/>
            <a:ext cx="457200" cy="190512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981080"/>
            <a:ext cx="457200" cy="533520"/>
          </a:xfrm>
          <a:prstGeom prst="cube">
            <a:avLst>
              <a:gd name="adj" fmla="val 25000"/>
            </a:avLst>
          </a:prstGeom>
          <a:solidFill>
            <a:srgbClr val="d3d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4653" t="9429" r="32236" b="61573"/>
          <a:stretch/>
        </p:blipFill>
        <p:spPr>
          <a:xfrm>
            <a:off x="1327320" y="3886200"/>
            <a:ext cx="34272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4653" t="9429" r="32236" b="61573"/>
          <a:stretch/>
        </p:blipFill>
        <p:spPr>
          <a:xfrm>
            <a:off x="1708200" y="2895480"/>
            <a:ext cx="34272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14653" t="9429" r="32236" b="61573"/>
          <a:stretch/>
        </p:blipFill>
        <p:spPr>
          <a:xfrm>
            <a:off x="1327320" y="2895480"/>
            <a:ext cx="34272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14653" t="9429" r="32236" b="61573"/>
          <a:stretch/>
        </p:blipFill>
        <p:spPr>
          <a:xfrm>
            <a:off x="1327320" y="2438280"/>
            <a:ext cx="342720" cy="381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rcRect l="14653" t="9429" r="32236" b="61573"/>
          <a:stretch/>
        </p:blipFill>
        <p:spPr>
          <a:xfrm>
            <a:off x="1708200" y="2438280"/>
            <a:ext cx="342720" cy="381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267080" y="2057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470640" y="3200400"/>
            <a:ext cx="457200" cy="11430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0640" y="2057400"/>
            <a:ext cx="457200" cy="1219320"/>
          </a:xfrm>
          <a:prstGeom prst="cube">
            <a:avLst>
              <a:gd name="adj" fmla="val 25000"/>
            </a:avLst>
          </a:prstGeom>
          <a:solidFill>
            <a:srgbClr val="d3d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8120" y="32004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267080" y="2990880"/>
            <a:ext cx="1204920" cy="150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112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660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0796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080120" y="3376440"/>
            <a:ext cx="1752840" cy="84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7080120" y="2286000"/>
            <a:ext cx="1752840" cy="844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2556000" y="4941720"/>
            <a:ext cx="34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mme 80% des richesses produi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227640" y="5084640"/>
            <a:ext cx="26672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produit la moitié des émissions de 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50920" y="134136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vec une utilisation des richesses très inéga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92280"/>
            <a:ext cx="1800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6028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0"/>
          <a:srcRect l="42623" t="0" r="8864" b="0"/>
          <a:stretch/>
        </p:blipFill>
        <p:spPr>
          <a:xfrm>
            <a:off x="46836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9080" y="1557360"/>
            <a:ext cx="75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vec une utilisation des ressources déraiso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26028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1800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936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haque anné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en France 620 Km² de sols naturels ou agricoles so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« artificialisés »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soit un département tous les dix 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0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’eau douce disponibl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est utilisée pour l’irrigation agr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 réserves d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étrol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ont estimées à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0 an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75564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42623" t="0" r="8864" b="0"/>
          <a:stretch/>
        </p:blipFill>
        <p:spPr>
          <a:xfrm>
            <a:off x="826920" y="6021360"/>
            <a:ext cx="1764000" cy="1041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2060640"/>
            <a:ext cx="367200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BIODIVERSI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2 a 3 espèces de pl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et d’animaux disparaissent toutes les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Un million d’espèces animales et végétales pourraient disparaître, soit entre 21 et 52 % des espè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692280"/>
            <a:ext cx="1800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9228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26028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6360" y="1268280"/>
            <a:ext cx="75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vec une utilisation des ressources déraiso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1989000"/>
            <a:ext cx="42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C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Seulement </a:t>
            </a: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20% des déchets</a:t>
            </a: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 actuellement produits dans le monde </a:t>
            </a: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font l’objet d’un trait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508720" y="4149720"/>
            <a:ext cx="1528560" cy="2293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692280"/>
            <a:ext cx="1800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26028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1800" y="1365120"/>
            <a:ext cx="63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t les écarts de richesses s’accroiss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1042920" y="6021360"/>
            <a:ext cx="1763640" cy="1041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198900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 la population mondial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it au dessous du seuil de pauvreté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(moins de 2 dollars par j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 la population mondiale de plus de 15 ans ne sait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 lire, ni écri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dont 98 % dans les pays du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que année 2,7 millions de personnes meurent de la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ollution de l’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72200" y="4581360"/>
            <a:ext cx="2971800" cy="1978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76360" y="5013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r la planète, à chaque minute, 15 personnes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meurent de f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95640" y="260280"/>
            <a:ext cx="4608360" cy="825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ELOPPEMENT DURABLE : UNE NECES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20640"/>
            <a:ext cx="180000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20640"/>
            <a:ext cx="1800360" cy="10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1413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i l’on infléchit pas la tendance…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2349360"/>
            <a:ext cx="379080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empéra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terrestre… pourrait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ugmenter de 1,5 à 3,5 °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…. Le niveau de la mer s’élevant alors de 0,5m à 4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 Bangladesh, une hausse de 1m du niveau de la mer entraînerait l’exil de 15 à 20 millions de personn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00720" y="2852640"/>
            <a:ext cx="446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 événements excep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e,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empêtes, les inondations et les vagues de canic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urraient ainsi deve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hénomènes ré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360" y="220500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 DEREGLEMENT CLI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42623" t="0" r="8864" b="0"/>
          <a:stretch/>
        </p:blipFill>
        <p:spPr>
          <a:xfrm>
            <a:off x="1258920" y="6021360"/>
            <a:ext cx="1763640" cy="104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4869000"/>
            <a:ext cx="2305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07:04:38Z</dcterms:created>
  <dc:creator>Mairie de Beaulieu</dc:creator>
  <dc:description/>
  <dc:language>en-US</dc:language>
  <cp:lastModifiedBy>Mairie de Beaulieu</cp:lastModifiedBy>
  <dcterms:modified xsi:type="dcterms:W3CDTF">2009-06-24T11:39:49Z</dcterms:modified>
  <cp:revision>25</cp:revision>
  <dc:subject/>
  <dc:title>Diapositive 1</dc:title>
</cp:coreProperties>
</file>